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B95-4769-42C3-889D-6686EF9D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118-B7EC-4A16-B58E-F3BFF57B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156-1E4D-45A2-8604-55679853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2C3-A303-43D2-957E-60BF1F5F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967-37D8-4DF5-BEB8-89E89A41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A2F-199C-44B1-BD7A-2B9575FE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68A-FCEA-42CE-8B6D-0FD2D900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6A5-C271-4F3F-B8E8-B07A980B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60F-F760-4138-9E8B-BD59F1E5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034-F828-4CD4-9916-D69CA077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322-DBBE-4FFA-B9D4-5FB99179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73A-138D-4777-A1AE-75B23772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6314-4F40-450F-9778-00C28D74D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7240" y="4436640"/>
            <a:ext cx="9848880" cy="1764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7240" y="6021000"/>
            <a:ext cx="9848880" cy="1764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76880" y="5894280"/>
            <a:ext cx="1439640" cy="181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0" y="4527720"/>
            <a:ext cx="2448000" cy="934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</a:rPr>
              <a:t>กระบวนการส่งเสริมพัฒนา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8880" y="4527720"/>
            <a:ext cx="4535640" cy="1006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</a:rPr>
              <a:t>กระบวนการส่งเสริมพัฒนา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89240" y="3078000"/>
            <a:ext cx="1225800" cy="155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</a:rPr>
              <a:t>กลุ่มเป้าหมายได้รับการถ่ายทอดความรู้ด้านสุขภาพและสามารถบริหารจัดการด้านสุขภาพได้ด้วยตนเอ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52520" y="1435320"/>
            <a:ext cx="2421000" cy="52020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</a:rPr>
              <a:t>คุ้มครองผู้บริโภ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</a:rPr>
              <a:t>ด้านบริการสุข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-267120" y="5043600"/>
            <a:ext cx="11430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ประสิทธิภาพข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การปฏิบัติราช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63680" y="1225440"/>
            <a:ext cx="2409840" cy="20160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319680" y="3762720"/>
            <a:ext cx="1143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คุณภา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การให้บริ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680" y="303120"/>
            <a:ext cx="98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แผนที่ยุทธศาสตร์กรมสนับสนุนบริการสุขภาพปีงบประมาณพ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ศ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.255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1960" y="630000"/>
            <a:ext cx="8864640" cy="64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วิสัยทัศน์ “เป็นองค์กรหลักในการคุ้มครองผู้บริโภคด้านการบริการสุขภาพและพัฒนาศักยภาพประชาชนให้สามารถพึ่งตนเองด้านสุขภาพได้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7240" y="2006640"/>
            <a:ext cx="9848880" cy="1728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41760" y="61963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การพัฒ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องค์ก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297360" y="217836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ประสิทธิผ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ตามยุทธศาสตร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4592160"/>
            <a:ext cx="71892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marL="182520" indent="-182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การถ่ายทอดความรู้ด้านสุขภา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0520" y="4759200"/>
            <a:ext cx="129708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rial"/>
              </a:rPr>
              <a:t>พัฒนาศักยภาพ ส่งเสริม สนับสนุน อสม</a:t>
            </a:r>
            <a:r>
              <a:rPr b="1" lang="th-TH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h-TH" sz="1000" spc="-1" strike="noStrike">
                <a:solidFill>
                  <a:srgbClr val="000000"/>
                </a:solidFill>
                <a:latin typeface="Arial"/>
              </a:rPr>
              <a:t>และภาคีเครือข่า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92520" y="2131920"/>
            <a:ext cx="1297080" cy="1006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</a:rPr>
              <a:t>ประชาชนมีความรู้ที่จำเป็นและพฤติกรรมที่ถูกต้องในการดูแลสุขภา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57960" y="3070080"/>
            <a:ext cx="1224000" cy="1371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</a:rPr>
              <a:t>อสม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</a:rPr>
              <a:t>และภาคีเครือข่ายมีศักยภาพและได้รับการสนับสนุนให้มีส่วนร่วมในการจัดกิจกรรมด้านสุขภา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1174680"/>
            <a:ext cx="2270160" cy="9464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เสริมสร้างการมีส่วนร่วมในการพัฒน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พฤติกรรมสุขภาพของประชาช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1197000"/>
            <a:ext cx="2270160" cy="2016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1960" y="4743360"/>
            <a:ext cx="574560" cy="703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บริการสุขภา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4" idx="0"/>
            <a:endCxn id="47" idx="2"/>
          </p:cNvCxnSpPr>
          <p:nvPr/>
        </p:nvCxnSpPr>
        <p:spPr>
          <a:xfrm flipH="1" flipV="1" rot="5400000">
            <a:off x="1970280" y="1517760"/>
            <a:ext cx="154800" cy="1030320"/>
          </a:xfrm>
          <a:prstGeom prst="curvedConnector3">
            <a:avLst>
              <a:gd name="adj1" fmla="val 16783"/>
            </a:avLst>
          </a:prstGeom>
          <a:ln w="2556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081240" y="2168640"/>
            <a:ext cx="1366920" cy="641520"/>
          </a:xfrm>
          <a:prstGeom prst="rect">
            <a:avLst/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ngsana News"/>
              </a:rPr>
              <a:t>2.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Angsana News"/>
              </a:rPr>
              <a:t>ผู้บริโภคมีความรู้ความเข้าใจในการใช้บริการสุขภา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0"/>
            <a:endCxn id="47" idx="2"/>
          </p:cNvCxnSpPr>
          <p:nvPr/>
        </p:nvCxnSpPr>
        <p:spPr>
          <a:xfrm flipV="1" rot="16200000">
            <a:off x="3057120" y="1461240"/>
            <a:ext cx="213480" cy="1202040"/>
          </a:xfrm>
          <a:prstGeom prst="curvedConnector3">
            <a:avLst>
              <a:gd name="adj1" fmla="val 18918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8" idx="0"/>
            <a:endCxn id="65" idx="2"/>
          </p:cNvCxnSpPr>
          <p:nvPr/>
        </p:nvCxnSpPr>
        <p:spPr>
          <a:xfrm flipH="1" flipV="1" rot="5400000">
            <a:off x="3349080" y="2829240"/>
            <a:ext cx="434880" cy="396360"/>
          </a:xfrm>
          <a:prstGeom prst="curvedConnector3">
            <a:avLst>
              <a:gd name="adj1" fmla="val 25103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8" idx="0"/>
            <a:endCxn id="60" idx="2"/>
          </p:cNvCxnSpPr>
          <p:nvPr/>
        </p:nvCxnSpPr>
        <p:spPr>
          <a:xfrm flipH="1" flipV="1" rot="5400000">
            <a:off x="5658840" y="1703160"/>
            <a:ext cx="11160" cy="847440"/>
          </a:xfrm>
          <a:prstGeom prst="curvedConnector5">
            <a:avLst>
              <a:gd name="adj1" fmla="val 100000"/>
              <a:gd name="adj2" fmla="val -77135"/>
              <a:gd name="adj3" fmla="val -9370000"/>
            </a:avLst>
          </a:prstGeom>
          <a:ln w="255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71" idx="0"/>
            <a:endCxn id="64" idx="2"/>
          </p:cNvCxnSpPr>
          <p:nvPr/>
        </p:nvCxnSpPr>
        <p:spPr>
          <a:xfrm flipV="1" rot="16200000">
            <a:off x="1549080" y="3100320"/>
            <a:ext cx="39960" cy="72360"/>
          </a:xfrm>
          <a:prstGeom prst="curvedConnector3">
            <a:avLst>
              <a:gd name="adj1" fmla="val 25454"/>
            </a:avLst>
          </a:prstGeom>
          <a:ln w="255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46" idx="0"/>
            <a:endCxn id="58" idx="2"/>
          </p:cNvCxnSpPr>
          <p:nvPr/>
        </p:nvCxnSpPr>
        <p:spPr>
          <a:xfrm flipH="1" rot="16200000">
            <a:off x="4941000" y="2838600"/>
            <a:ext cx="60840" cy="539280"/>
          </a:xfrm>
          <a:prstGeom prst="curvedConnector5">
            <a:avLst>
              <a:gd name="adj1" fmla="val -1785"/>
              <a:gd name="adj2" fmla="val -114629"/>
              <a:gd name="adj3" fmla="val 2570833"/>
            </a:avLst>
          </a:prstGeom>
          <a:ln w="255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8629560" y="4599000"/>
            <a:ext cx="1076400" cy="10076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ระบบรายงาน ระบบติดตามและเฝ้าระวังปัญหายาเสพติดได้รับการปรับปรุงและพัฒน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93080" y="2997360"/>
            <a:ext cx="1855800" cy="1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93080" y="2967120"/>
            <a:ext cx="1855800" cy="946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เสริมสร้างความมั่นคงขอ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ชีวิตและสังคม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กระทรวงฯ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24520" y="3070080"/>
            <a:ext cx="1009800" cy="173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</a:rPr>
              <a:t>ระบบรายงาน ระบบติดตามและเฝ้าระวังปัญหายาเสพติ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</a:rPr>
              <a:t>ได้รับการปรับปรุ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</a:rPr>
              <a:t>มีคุณภา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73" idx="0"/>
            <a:endCxn id="76" idx="2"/>
          </p:cNvCxnSpPr>
          <p:nvPr/>
        </p:nvCxnSpPr>
        <p:spPr>
          <a:xfrm rot="5400000">
            <a:off x="8144280" y="3783600"/>
            <a:ext cx="208080" cy="1838880"/>
          </a:xfrm>
          <a:prstGeom prst="curvedConnector5">
            <a:avLst>
              <a:gd name="adj1" fmla="val -33275"/>
              <a:gd name="adj2" fmla="val 48737"/>
              <a:gd name="adj3" fmla="val 101039"/>
            </a:avLst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6176880" y="2131920"/>
            <a:ext cx="1297080" cy="8240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th-TH" sz="1200" spc="-1" strike="noStrike">
                <a:solidFill>
                  <a:srgbClr val="000000"/>
                </a:solidFill>
                <a:latin typeface="Times New Roman"/>
              </a:rPr>
              <a:t>อสม</a:t>
            </a:r>
            <a:r>
              <a:rPr b="1" lang="th-TH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th-TH" sz="1200" spc="-1" strike="noStrike">
                <a:solidFill>
                  <a:srgbClr val="000000"/>
                </a:solidFill>
                <a:latin typeface="Times New Roman"/>
              </a:rPr>
              <a:t>และภาคีเครือข่ายมีส่วนร่วมในการจัดการสุขภาพชุมช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0520" y="2109960"/>
            <a:ext cx="1944720" cy="1006560"/>
          </a:xfrm>
          <a:prstGeom prst="rect">
            <a:avLst/>
          </a:prstGeom>
          <a:solidFill>
            <a:srgbClr val="cc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ngsana News"/>
              </a:rPr>
              <a:t>1.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Angsana News"/>
              </a:rPr>
              <a:t>สถานบริการสุขภาพภาครัฐ ภาคเอกชน และสถานประกอบการธุรกิจบริการสุขภาพมีคุณภาพตามมาตรฐ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1440" y="4743360"/>
            <a:ext cx="576360" cy="855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งานสุขศึกษ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5320" y="4743360"/>
            <a:ext cx="574920" cy="703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อาคารสถานที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6320" y="4743360"/>
            <a:ext cx="576000" cy="855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วิศวกรรมการแพทย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38400" y="4751280"/>
            <a:ext cx="647640" cy="10076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มาตรฐานสถานบริการสุขภาพภาคเอกช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89480" y="4741920"/>
            <a:ext cx="576360" cy="855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มาตรฐานธุรกิจบริการสุขภา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59" idx="0"/>
            <a:endCxn id="78" idx="2"/>
          </p:cNvCxnSpPr>
          <p:nvPr/>
        </p:nvCxnSpPr>
        <p:spPr>
          <a:xfrm flipH="1" flipV="1" rot="5400000">
            <a:off x="6390360" y="2635200"/>
            <a:ext cx="114480" cy="755640"/>
          </a:xfrm>
          <a:prstGeom prst="curvedConnector3">
            <a:avLst>
              <a:gd name="adj1" fmla="val 24921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8" idx="0"/>
            <a:endCxn id="60" idx="2"/>
          </p:cNvCxnSpPr>
          <p:nvPr/>
        </p:nvCxnSpPr>
        <p:spPr>
          <a:xfrm flipV="1" rot="16200000">
            <a:off x="6451200" y="1757880"/>
            <a:ext cx="11160" cy="737640"/>
          </a:xfrm>
          <a:prstGeom prst="curvedConnector5">
            <a:avLst>
              <a:gd name="adj1" fmla="val 100000"/>
              <a:gd name="adj2" fmla="val -88623"/>
              <a:gd name="adj3" fmla="val -7676666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 flipV="1">
            <a:off x="57240" y="2908440"/>
            <a:ext cx="9848880" cy="1728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0520" y="3156120"/>
            <a:ext cx="2089080" cy="15541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ngsana News"/>
              </a:rPr>
              <a:t>5.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Angsana News"/>
              </a:rPr>
              <a:t>สถานบริการสุขภาพภาครัฐ ภาคเอกชน สถานประกอบการธุรกิจบริการสุขภาพ และ ผู้ประกอบโรคศิลปะ ได้รับการส่งเสริม พัฒนา สนับสนุน ประสาน ควบคุมกำกับ ให้มีคุณภาพมาตรฐานบริการสุขภา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92520" y="3244680"/>
            <a:ext cx="1152360" cy="8240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ngsana News"/>
              </a:rPr>
              <a:t>6.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Angsana News"/>
              </a:rPr>
              <a:t>ผู้บริโภคได้รับการส่งเสริมคุ้มครองด้านบริการสุขภา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6" idx="3"/>
            <a:endCxn id="75" idx="1"/>
          </p:cNvCxnSpPr>
          <p:nvPr/>
        </p:nvCxnSpPr>
        <p:spPr>
          <a:xfrm flipV="1">
            <a:off x="7834320" y="3440160"/>
            <a:ext cx="159120" cy="498600"/>
          </a:xfrm>
          <a:prstGeom prst="curvedConnector3">
            <a:avLst>
              <a:gd name="adj1" fmla="val 100000"/>
            </a:avLst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097600" y="4525920"/>
            <a:ext cx="936360" cy="1312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ngsana News"/>
              </a:rPr>
              <a:t>11. </a:t>
            </a:r>
            <a:r>
              <a:rPr b="1" lang="hi-IN" sz="1000" spc="-1" strike="noStrike">
                <a:solidFill>
                  <a:srgbClr val="000000"/>
                </a:solidFill>
                <a:latin typeface="Arial"/>
                <a:cs typeface="Angsana News"/>
              </a:rPr>
              <a:t>กระบวนการส่งเสริมการคุ้มครองด้านบริการสุขภาพระหว่างผู้ให้บริการและผู้รับบริกา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45" idx="0"/>
            <a:endCxn id="71" idx="2"/>
          </p:cNvCxnSpPr>
          <p:nvPr/>
        </p:nvCxnSpPr>
        <p:spPr>
          <a:xfrm rot="5400000">
            <a:off x="2089080" y="4043160"/>
            <a:ext cx="182880" cy="1152000"/>
          </a:xfrm>
          <a:prstGeom prst="curvedConnector5">
            <a:avLst>
              <a:gd name="adj1" fmla="val -746548"/>
              <a:gd name="adj2" fmla="val 197342"/>
              <a:gd name="adj3" fmla="val -746548"/>
            </a:avLst>
          </a:prstGeom>
          <a:ln w="25560">
            <a:solidFill>
              <a:srgbClr val="339933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8" idx="0"/>
            <a:endCxn id="68" idx="2"/>
          </p:cNvCxnSpPr>
          <p:nvPr/>
        </p:nvCxnSpPr>
        <p:spPr>
          <a:xfrm flipV="1" rot="16200000">
            <a:off x="4238280" y="3198600"/>
            <a:ext cx="457560" cy="2197440"/>
          </a:xfrm>
          <a:prstGeom prst="curvedConnector3">
            <a:avLst>
              <a:gd name="adj1" fmla="val 25118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44" idx="0"/>
            <a:endCxn id="46" idx="2"/>
          </p:cNvCxnSpPr>
          <p:nvPr/>
        </p:nvCxnSpPr>
        <p:spPr>
          <a:xfrm rot="5400000">
            <a:off x="5963400" y="3266280"/>
            <a:ext cx="104760" cy="2628000"/>
          </a:xfrm>
          <a:prstGeom prst="curvedConnector5">
            <a:avLst>
              <a:gd name="adj1" fmla="val -3103"/>
              <a:gd name="adj2" fmla="val 61624"/>
              <a:gd name="adj3" fmla="val 102758"/>
            </a:avLst>
          </a:prstGeom>
          <a:ln w="255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44" idx="0"/>
            <a:endCxn id="59" idx="2"/>
          </p:cNvCxnSpPr>
          <p:nvPr/>
        </p:nvCxnSpPr>
        <p:spPr>
          <a:xfrm flipV="1" rot="16200000">
            <a:off x="6656760" y="3854520"/>
            <a:ext cx="86400" cy="1260000"/>
          </a:xfrm>
          <a:prstGeom prst="curvedConnector3">
            <a:avLst>
              <a:gd name="adj1" fmla="val 24686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376880" y="5533920"/>
            <a:ext cx="1439640" cy="181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1240" y="5641920"/>
            <a:ext cx="7559640" cy="216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</a:rPr>
              <a:t>ศึกษา วิเคราะห์ วิจัย และพัฒนาองค์ความรู้เทคโนโลย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6110280"/>
            <a:ext cx="1433520" cy="733320"/>
          </a:xfrm>
          <a:prstGeom prst="rect">
            <a:avLst/>
          </a:prstGeom>
          <a:solidFill>
            <a:srgbClr val="66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ngsana News"/>
              </a:rPr>
              <a:t>บริหารจัดการความรู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81240" y="6110280"/>
            <a:ext cx="1727280" cy="520200"/>
          </a:xfrm>
          <a:prstGeom prst="rect">
            <a:avLst/>
          </a:prstGeom>
          <a:solidFill>
            <a:srgbClr val="66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ngsana News"/>
              </a:rPr>
              <a:t>เทคโนโลยีสารสนเท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35880" y="6110280"/>
            <a:ext cx="1520640" cy="946440"/>
          </a:xfrm>
          <a:prstGeom prst="rect">
            <a:avLst/>
          </a:prstGeom>
          <a:solidFill>
            <a:srgbClr val="66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1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Arial"/>
              </a:rPr>
              <a:t>บริหา</a:t>
            </a:r>
            <a:r>
              <a:rPr b="1" lang="th-TH" sz="1400" spc="-1" strike="noStrike">
                <a:solidFill>
                  <a:srgbClr val="000000"/>
                </a:solidFill>
                <a:latin typeface="Arial"/>
                <a:cs typeface="Angsana News"/>
              </a:rPr>
              <a:t>รจัดการโด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cs typeface="Angsana News"/>
              </a:rPr>
              <a:t>ใช้หลักธรรมาภิบา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57960" y="6110280"/>
            <a:ext cx="1509480" cy="733320"/>
          </a:xfrm>
          <a:prstGeom prst="rect">
            <a:avLst/>
          </a:prstGeom>
          <a:solidFill>
            <a:srgbClr val="66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บริห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ngsana News"/>
              </a:rPr>
              <a:t>ทรัพยากรบุคค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16280" y="4743360"/>
            <a:ext cx="647640" cy="855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มาตรฐานการประกอบโรคศิลป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8520" y="11592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- 2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6181560"/>
            <a:ext cx="4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- 2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1:29:15Z</dcterms:created>
  <dc:creator>duangmarn</dc:creator>
  <dc:description/>
  <dc:language>en-US</dc:language>
  <cp:lastModifiedBy>Microsoft</cp:lastModifiedBy>
  <dcterms:modified xsi:type="dcterms:W3CDTF">2009-11-06T10:27:28Z</dcterms:modified>
  <cp:revision>369</cp:revision>
  <dc:subject/>
  <dc:title>ภาพนิ่ง 1</dc:title>
</cp:coreProperties>
</file>